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79B-E77B-465E-839B-612742CF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D5B-B467-4117-ADB4-E9C52ED7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DE5-EA5B-416D-8ED6-419C366F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D20-A377-49B9-8C78-B510DD3D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A5D-B0F7-4349-84A3-9FB62F38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441E-811A-47F2-B82A-98106D0D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A893-684B-4467-A8C0-7C833B2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1E35-93D8-4773-965A-EBEFC543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944D-8BE0-43DF-939A-6B88F4A9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3C67-06C8-437B-812F-58ED3708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1529-CC95-42F9-B701-19636CB1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8C1-54A8-459B-B248-A26EFF45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D3AC-0DC7-4DA8-9A18-0783EFF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8F17-45A9-4725-BFC1-DAA2C49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5EB9-1E28-45E0-A72C-10E18DA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C6B6-AAD4-406B-BD5B-D72A74C9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408-B212-4183-8581-E549ACE6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71B-EF79-4722-B14B-91E86497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59C-6BDC-4339-94D5-49FF8DBE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894-1838-410B-B5BC-2F7959D5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A1F-22F1-4507-B280-789C19DF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09C-8B68-4D1F-8110-2D844BB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F3A-1E8B-4992-BD3A-15BD10C1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541-0F95-4DEE-84BC-3B4F556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-208080"/>
            <a:ext cx="9144000" cy="7066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108C-38C4-4C1D-B600-FB77686A20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FA62-56C6-4B53-98B8-45A1BB30A5C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530280" y="609480"/>
            <a:ext cx="7888320" cy="2694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Constantia"/>
              </a:rPr>
              <a:t>The Science Behind the Kyani Nitric Oxide Precurso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Constantia"/>
              </a:rPr>
              <a:t>Clair A. Francomano, M.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Nitric Oxide:</a:t>
            </a:r>
            <a:br>
              <a:rPr sz="5000"/>
            </a:b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Neurologic effects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2362320"/>
            <a:ext cx="807696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Brain-derived NO affects several types of nerve cell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Important in neurotransmitter pathways, both in the central and peripheral nervous syste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Regulates production and release of many horm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80"/>
                </a:solidFill>
                <a:latin typeface="Maiandra GD"/>
              </a:rPr>
              <a:t>Nitric Oxide</a:t>
            </a:r>
            <a:r>
              <a:rPr b="0" lang="en-US" sz="4300" spc="-1" strike="noStrike">
                <a:solidFill>
                  <a:srgbClr val="000080"/>
                </a:solidFill>
                <a:latin typeface="Maiandra GD"/>
              </a:rPr>
              <a:t>: </a:t>
            </a:r>
            <a:br>
              <a:rPr sz="4300"/>
            </a:br>
            <a:r>
              <a:rPr b="0" lang="en-US" sz="4900" spc="-1" strike="noStrike">
                <a:solidFill>
                  <a:srgbClr val="000080"/>
                </a:solidFill>
                <a:latin typeface="Maiandra GD"/>
              </a:rPr>
              <a:t>Neurologic applications</a:t>
            </a:r>
            <a:endParaRPr b="0" lang="en-US" sz="49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337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Anti-aging properties – release of human growth hormone (HGH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Regeneration of damaged axons of neur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Diabetic neuropath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17" descr="Nerves"/>
          <p:cNvPicPr/>
          <p:nvPr/>
        </p:nvPicPr>
        <p:blipFill>
          <a:blip r:embed="rId2"/>
          <a:stretch/>
        </p:blipFill>
        <p:spPr>
          <a:xfrm>
            <a:off x="6248520" y="2971800"/>
            <a:ext cx="2286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Nitric Oxide:</a:t>
            </a:r>
            <a:br>
              <a:rPr sz="5000"/>
            </a:b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Immunologic effects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440" y="2468520"/>
            <a:ext cx="662940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Macrophage-derived N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mportant in the immune syste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elps macrophages kill bacter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Nitric Oxide: </a:t>
            </a:r>
            <a:br>
              <a:rPr sz="5000"/>
            </a:b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Immunologic applications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040" y="246816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Bacterial and viral infe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General immunit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Inflamm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17" descr="Macrophage"/>
          <p:cNvPicPr/>
          <p:nvPr/>
        </p:nvPicPr>
        <p:blipFill>
          <a:blip r:embed="rId2"/>
          <a:stretch/>
        </p:blipFill>
        <p:spPr>
          <a:xfrm>
            <a:off x="5791320" y="3276720"/>
            <a:ext cx="24382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oXtreme: More Power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gnificant increase in poten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ster acting because of more rapid absor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nger sustained action because of higher concent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s co-factors to increase N.O. generation and dramatically broaden the health benef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itional ingredients: Magnesium, Niacin, Zinc, CoQ-10, Chromium and Quick-Sorb®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80"/>
                </a:solidFill>
                <a:latin typeface="Calibri"/>
              </a:rPr>
              <a:t>CoQ10</a:t>
            </a: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natural, fat-soluble nutrient present in virtually every cell in the bod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al to the production of Adenosine Triphosphate (ATP) which is 90% of the energy in the bod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cardiovascular health and improved blood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des in strengthening the immune system and promoting good periodontal healt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Magnesium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verts carbohydrates, protein and fats to energ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rts muscle relaxation and contraction as well as nerve transmiss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healthy systolic and diastolic blood pressur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healthy glucose metabolis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Zinc (Zn)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omponent of numerous enzymes including the enzyme that converts L-arginine into Nitric Oxi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ys a role in protein synthesis, blood sugar balance, wound healing and brain func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healthy skin, and a strong immune syst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healthy fetal and reproductive healt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healthy prostate func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Chromium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ists uptake of blood sugar into the cel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regulation of blood sugar leve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duces the risk of insulin resistan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rts lean body mas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oFX or NitroXtreme?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53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provide an excellent source of organic nitrates and nitrites, manufactured under GMP condition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entrations of nitrates and nitrites are tightly controlled and highly reprodu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oXtreme has higher concentrations of nitrates and nitrites and a bolder tas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itional ingredients in NitroXtreme allow for a longer acting effect on nitric oxide production, as well as quicker absorption into the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nitric-oxide.gif"/>
          <p:cNvPicPr/>
          <p:nvPr/>
        </p:nvPicPr>
        <p:blipFill>
          <a:blip r:embed="rId2"/>
          <a:stretch/>
        </p:blipFill>
        <p:spPr>
          <a:xfrm>
            <a:off x="2666880" y="3733920"/>
            <a:ext cx="3810240" cy="219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ic Oxid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olecule of Lif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ic Oxide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hort-lived gaseous molecu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ys a key role in numerous biological processes essential for human health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3" name="Picture 3" descr="nitric-oxide.gif"/>
          <p:cNvPicPr/>
          <p:nvPr/>
        </p:nvPicPr>
        <p:blipFill>
          <a:blip r:embed="rId2"/>
          <a:stretch/>
        </p:blipFill>
        <p:spPr>
          <a:xfrm>
            <a:off x="2666880" y="3733920"/>
            <a:ext cx="3810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oFX and NitroXtreme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in concentrates of the Noni plant, which has high levels of  nitrates and nitri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ates and nitrates serve as precursors of NO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ext Up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biochemistry used to convert nitrates and nitrites into 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 science behind the functions served by NO throughout the bod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Nitrogen – A Key Element for Human Health!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5000"/>
            <a:ext cx="822960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ogen gas (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is the most abundant element in the atmospher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resents the largest pool of nitrogen on our planet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nitrogen cycle serves to convert 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a form that can be used in biological proce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first step, atmospheric nitrogen is converted into ammonia (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), a process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itrogen fix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Biochemical Pathways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87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monia is  modified to different nitrogen oxides, including nitrite (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and nitrate (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rocess of denitrification completes the cyc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ate is reduced first to nitrite, nitric oxide, nitrous oxide and finally back to nitrogen gas (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, which can then diffuse back into the atmospher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ic Oxide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06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 a gas, NO has an extremely short half life  (fraction of a secon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n during that short time it can activate a number of enzymes and these activated enzymes cause NO-mediated effects that can last for several hour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y NO that is not used immediately in a biologic process is rapidly converted back to nitrite and nitrat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etabolic steps in the nitrogen cycle depend heavily on bacteria (different metabolic pathway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ic Oxide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1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etabolic steps in the nitrogen cycle depend heavily on bacteria, which have metabolic pathways not found in plants or animals to catalyze the different steps of the cyc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Pathways to Nitric Oxide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87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ginine is converted to NO by enzymes called Nitric Oxide Synth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ate ingestion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great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nhances production of nitric oxid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 concentrations of nitric oxide are produced from nitrates by the acidity in the stomach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Moving through the GI tract…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87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y nitrate that escapes conversion to NO in the stomach enters the circulation or passes into the small intestine and is absorbed into the circ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ate is delivered to the salivary glan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liva containing nitrate is actively secreted into the mouth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teria in the mouth then convert (“reduce”) nitrate to nitrite 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rocess of nitrate reduction also occurs in the heart  and multiple other organ systems throughout the bod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Biological Processes</a:t>
            </a:r>
            <a:br>
              <a:rPr sz="4500"/>
            </a:b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Dependent on Nitric Oxide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tion of blood flow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llular signa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onse to low oxygen levels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hibition of platelet stickines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ung func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mun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abolic  (energy) regul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rve transmiss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in re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o FX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89120"/>
            <a:ext cx="807732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Maiandra GD"/>
              </a:rPr>
              <a:t>The importance of Nitric Oxide</a:t>
            </a:r>
            <a:r>
              <a:rPr b="1" lang="en-US" sz="2600" spc="-1" strike="noStrike">
                <a:solidFill>
                  <a:srgbClr val="000066"/>
                </a:solidFill>
                <a:latin typeface="Maiandra G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Underscored when three pharmacologists were  awarded the Nobel Prize in Physiology or Medicine in 1998 for their research in Nitric Oxid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Picture 19" descr="large-nobel"/>
          <p:cNvPicPr/>
          <p:nvPr/>
        </p:nvPicPr>
        <p:blipFill>
          <a:blip r:embed="rId2"/>
          <a:stretch/>
        </p:blipFill>
        <p:spPr>
          <a:xfrm>
            <a:off x="3505320" y="3809880"/>
            <a:ext cx="1752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Low NO levels found in…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heroscler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gi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ok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abolic syndrome of obesity, hypertension and hyperlipidem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What Sources Provide</a:t>
            </a:r>
            <a:br>
              <a:rPr sz="4500"/>
            </a:b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Nitrate and Nitrite?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2362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– especially green leafy vege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i plant – outstanding sou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oFX and NitroXtreme are derivatives of Noni Concentrat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How Much Nitrate and</a:t>
            </a:r>
            <a:br>
              <a:rPr sz="4500"/>
            </a:b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Nitrite is There?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39184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entrations of nitrates are at least two orders of magnitude higher than those of nitri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half-life for nitrate is 5-6 h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half life for nitrite is only 20 min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ic Oxide in the Stomach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057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ic oxide in the stomach is a first line of defen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ic oxide in high concentrations is known to kill bacte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stric nitric oxide helps control of blood flow to the cells of the stomach and the production of mucus – promotes intestinal heal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Nitric Oxide in the Intensive Care Unit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CU patients on ventilators do not produce much saliva, and they do not swallow much of what they produc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ed with potent antibiotics to prevent inf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2 blockers or proton-pump inhibitors increase the pH in the stomach (decreased acid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tremely low levels of nitric oxide in the stom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 risk of developing stomach ulcers and bacterial infections in the stomach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Hemoglobin and Nitric Oxide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763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action between hemoglobin and NO only recently recognize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xygen binding status of hemoglobin affects its ability to convert nitrite to N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rsion of nitrite to NO is most active during periods of rapid deoxygenation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are the consequences of thi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vides a mechanism whereby the body is able to produce more NO in times of low oxyg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sults in increased dilation of the blood vessels, more blood flow and hence more oxygen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y be one of the mechanisms used by the body to increase vasodilation in times of hypox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O and Anemia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133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s who are anemic are known to be at risk from the events associated with low NO availability including hypertens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can be generated by leafy green vegetables and by NitroFX and NitroXtre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Other Globin Molecules</a:t>
            </a:r>
            <a:br>
              <a:rPr sz="4500"/>
            </a:b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also bind NO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oglobin is also known to play a role in nitrite bioactivation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oglobin converts nitrite to NO in the heart muscle in much the same way that hemoglobin does in the intravascular spac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ite has a cardio-protective effect mediated through myoglobin 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imilar molecule in the nervous system, called neuroglobin, also has the ability to convert nitrite to NO through the process of reduc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NO and the Cardiovascular System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irst reports of dilating the coronary arteries by pharmacologic doses of inorganic nitrite were published almost 100 years ag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is a vasodilatory effect of much lower levels of circulating nitrit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c nitrites, derived from plants, are much more potent than inorganic nitrit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referential conversion of nitrite to NO under conditions of hypoxia has important clinical applications in the care of patients with myocardial ische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Scientific Evidence:</a:t>
            </a:r>
            <a:br>
              <a:rPr sz="4500"/>
            </a:br>
            <a:r>
              <a:rPr b="0" lang="en-US" sz="4000" spc="-1" strike="noStrike">
                <a:solidFill>
                  <a:srgbClr val="000080"/>
                </a:solidFill>
                <a:latin typeface="Calibri"/>
              </a:rPr>
              <a:t>Nitrates, Nitrites and Heart Health</a:t>
            </a:r>
            <a:endParaRPr b="0" lang="en-US" sz="4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209320"/>
            <a:ext cx="822960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reased consumption of fruits and vegetables provides a cardio-protective effect (Mediterranean Diet, DASH Diet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ministration of inorganic nitrate reduces blood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ic Oxide Precursors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63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irst recognized nitric oxide precursor was the amino acid arginine, which is converted to NO by a family of enzymes called Nitric Oxide Synthases (NOS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oFx and NitroXtreme represent a second generation of Nitric Oxide precursors.  They activate in seconds and are 100% arginine-fre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Heart and Kidney Study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98108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imal model of high blood pressure and renal diseas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ic oxide deficiency induced by chronic blockage of NOS (nitric oxide synthase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ite supplementation provided in the di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roved the blood pressur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cted against kidney injury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Other Studies of Nitrite Supplementation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use and rat models of heart disease – improved cardiac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creased ulcer formation and improved mucus secretion in the stomach in a rat model of gastric ulc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uman studies: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creased platelet aggreg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creased blood pressur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roved endothelial func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creased oxygen consumption with moderate or maximal exerci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roved work efficienc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More Science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mouse models of serious bacterial infection causing dangerously low blood pressure, nitrite improved survival and reduced mitochondrial damage, tissue damage from ischemia, hypothermia and oxidative stress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haled nitric oxide has been used to treat babies with high blood pressure in the pulmonary circulation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haled nitrite has improved hypertension in the pulmonary circulation in animal stud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Transplantation Studies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 model of cardiac transplantation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al supplementation of nitrit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ft survival improved from 50 days in animals on a control diet to over 120 days in animals receiving nitrite supplementation in their drinking water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imals receiving a low-nitrite diet had reduced survival of the allograft, to an average of 31 day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Fighting Infection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133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acts against multiple types of bacte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an animal model of cystic fibrosis, nitrite was successfully used to clea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seudomonas aeruginos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a common bacterial infection in this dise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animal models, the combination of vitamin C with nitrite is comparable to antibiotics in fighting urinary tract infections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So...Like Mama Always Said...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68520"/>
            <a:ext cx="822960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or optimal health –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EAT YOUR VEGETABLES!!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nd take NitroFX or NitroXtreme three times a da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02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Nitrates, Nitrites</a:t>
            </a:r>
            <a:br>
              <a:rPr sz="5000"/>
            </a:b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and Nitric Oxide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800" y="2697120"/>
            <a:ext cx="449568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itrate = NO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itrite = NO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itric oxide = N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Nitrates and Nitrites Are </a:t>
            </a:r>
            <a:br>
              <a:rPr sz="4500"/>
            </a:br>
            <a:r>
              <a:rPr b="0" lang="en-US" sz="4500" spc="-1" strike="noStrike">
                <a:solidFill>
                  <a:srgbClr val="000080"/>
                </a:solidFill>
                <a:latin typeface="Calibri"/>
              </a:rPr>
              <a:t>Recycled in the body</a:t>
            </a:r>
            <a:endParaRPr b="0" lang="en-US" sz="45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144880"/>
            <a:ext cx="82296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stomach, the nitrites are converted to NO, and the some of the nitrates are absorb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ates in the bloodstream are concentrated in the saliva, where they are converted to nitrites, then swallowed and converted to NO in the stoma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in the body is converted back to nitrites and nitrates, and the cycle contin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80"/>
                </a:solidFill>
                <a:latin typeface="Maiandra GD"/>
              </a:rPr>
              <a:t>Nitric Oxide</a:t>
            </a:r>
            <a:r>
              <a:rPr b="0" lang="en-US" sz="4300" spc="-1" strike="noStrike">
                <a:solidFill>
                  <a:srgbClr val="000080"/>
                </a:solidFill>
                <a:latin typeface="Maiandra GD"/>
              </a:rPr>
              <a:t>: </a:t>
            </a:r>
            <a:r>
              <a:rPr b="0" lang="en-US" sz="4800" spc="-1" strike="noStrike">
                <a:solidFill>
                  <a:srgbClr val="000080"/>
                </a:solidFill>
                <a:latin typeface="Maiandra GD"/>
              </a:rPr>
              <a:t>Effects on</a:t>
            </a:r>
            <a:endParaRPr b="0" lang="en-US" sz="48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43164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448"/>
                </a:solidFill>
                <a:latin typeface="Maiandra GD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1905120" y="1657440"/>
            <a:ext cx="5943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ardiovascular syste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Nervous syste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mmune syste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20" descr="Atherosclerosis-3"/>
          <p:cNvPicPr/>
          <p:nvPr/>
        </p:nvPicPr>
        <p:blipFill>
          <a:blip r:embed="rId2"/>
          <a:stretch/>
        </p:blipFill>
        <p:spPr>
          <a:xfrm>
            <a:off x="144792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Nerves"/>
          <p:cNvPicPr/>
          <p:nvPr/>
        </p:nvPicPr>
        <p:blipFill>
          <a:blip r:embed="rId3"/>
          <a:stretch/>
        </p:blipFill>
        <p:spPr>
          <a:xfrm>
            <a:off x="3979800" y="4191120"/>
            <a:ext cx="2116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Nitric Oxide:</a:t>
            </a:r>
            <a:br>
              <a:rPr sz="5000"/>
            </a:b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Cardiovascular Effects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419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NO signals the smooth muscle cells and induces  increased compliance, enhancing blood flow throughout the vascular tre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Also regulates function in platelets (blood cells responsible for blood clots) to inhibit excess aggregation or blood clott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8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609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Nitric Oxide: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Maiandra GD"/>
              </a:rPr>
              <a:t>Cardiovascular Applications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1066680" y="24685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2448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Hardening of the Arterie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2448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Plaque Build-U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2448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High Blood Pressur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2448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448"/>
                </a:solidFill>
                <a:latin typeface="Maiandra GD"/>
              </a:rPr>
              <a:t>Obstruction of the Arteri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20" descr="Atherosclerosis-3"/>
          <p:cNvPicPr/>
          <p:nvPr/>
        </p:nvPicPr>
        <p:blipFill>
          <a:blip r:embed="rId2"/>
          <a:stretch/>
        </p:blipFill>
        <p:spPr>
          <a:xfrm>
            <a:off x="640080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4:57:16Z</dcterms:created>
  <dc:creator>Owner</dc:creator>
  <dc:description/>
  <dc:language>en-US</dc:language>
  <cp:lastModifiedBy>Joe Olivas</cp:lastModifiedBy>
  <cp:lastPrinted>2011-10-04T17:23:21Z</cp:lastPrinted>
  <dcterms:modified xsi:type="dcterms:W3CDTF">2011-10-05T16:56:35Z</dcterms:modified>
  <cp:revision>26</cp:revision>
  <dc:subject/>
  <dc:title>NitroFX, NitroXtreme and  Nitric Oxide</dc:title>
</cp:coreProperties>
</file>